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.wmf" ContentType="image/x-wmf"/>
  <Override PartName="/ppt/media/image3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7.jpeg" ContentType="image/jpeg"/>
  <Override PartName="/ppt/media/image8.wmf" ContentType="image/x-wmf"/>
  <Override PartName="/ppt/media/image38.jpeg" ContentType="image/jpeg"/>
  <Override PartName="/ppt/media/image44.jpeg" ContentType="image/jpeg"/>
  <Override PartName="/ppt/media/image39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2.jpeg" ContentType="image/jpeg"/>
  <Override PartName="/ppt/media/image4.wmf" ContentType="image/x-wmf"/>
  <Override PartName="/ppt/media/image34.wmf" ContentType="image/x-wmf"/>
  <Override PartName="/ppt/media/image43.jpeg" ContentType="image/jpeg"/>
  <Override PartName="/ppt/media/image12.wmf" ContentType="image/x-wmf"/>
  <Override PartName="/ppt/media/image6.wmf" ContentType="image/x-wmf"/>
  <Override PartName="/ppt/media/image10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1.png" ContentType="image/png"/>
  <Override PartName="/ppt/media/image3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23E-6E71-4324-BABA-13B0ABC8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BD0-96DF-47E8-9570-63905C75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859-E40A-4B01-A64B-2FCFDD22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637-45B6-4CE9-81CE-F8A1F4CA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8BBA-4DB7-4344-867A-F28FCA9A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0218-C863-433D-8A6B-9427C2B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E43D-3F65-4B05-A852-C7A132A8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20E8-9A46-4FDC-B145-8CB0ED5F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EE3A-9F2C-462C-A8C6-AD0C7660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6095-CF94-467A-BC55-D6D8C740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C870-031A-47FD-80EC-74FDA3E2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13E-51AD-4078-ABE4-F934FB8A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7E8C-1DA7-4726-885A-C061B3AC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8A58-9D23-4497-9A48-CC1AC69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C2D3-CF36-468E-BE14-7FF30154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14E3-02CB-4C50-B017-CF402A60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5AFD-689E-4092-A958-230986EA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FD7A-FE7E-41CC-8BC5-9D9DFBBD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7A659-4EB6-427F-9542-CD3DE3E0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5976-C62F-41CA-B637-63BBC04F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9212-9E45-4EFA-B217-2A07E6F7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B74A-3CB1-4BFA-8754-64E17E53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BD0-9AC0-4E1B-8152-2C175DD3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F9D6-069E-4E9E-A1CA-1A8C90A1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F7A3-0FBD-49DD-A2F9-212332D7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A9AB-CFD4-44D4-B138-602F55BB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3225-2072-42C9-BC79-4D06EB82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50D4-87BB-44FE-A7DF-7A925606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5F60-6BA8-4C33-978F-C51F7830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F2C4-E726-4F8C-A611-9F5EDBFF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4EA-41D3-4CD7-BDEA-71A292DE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0C3-2DA5-4CA3-ABA2-F0E940A0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863-9EB7-4F77-9874-7BF14D84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5B6-A7D3-4657-B591-729F2D2B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7DD-D000-4290-BA42-72A9D9B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56D-890E-4718-8FD5-E265C11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45E9-E30B-4E16-A9BC-EBCB02F6E6FF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53" name="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54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977280" y="-853200"/>
                <a:ext cx="1722600" cy="342900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2F3A-261F-4B6A-B160-F7E726F42985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F7C0-1F8C-4262-985B-644FA840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session2005.adventist.org/media-kit/photos/st_louis/st_louis-arch-sky_blue.jpg&amp;imgrefurl=http://session2005.adventist.org/media-kit/photos/st_louis/index.html&amp;h=3024&amp;w=2016&amp;sz=1787&amp;hl=en&amp;start=4&amp;tbnid=iWfIB4GPnEtdpM:&amp;tbnh=150&amp;tbnw=100&amp;prev=/images%3Fq%3Dst%2Blouis%2Barch%26gbv%3D2%26hl%3Den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nchgeneralstore.com/bags/img/bag.jpg&amp;imgrefurl=http://www.frenchgeneralstore.com/bags/bags.html&amp;h=550&amp;w=396&amp;sz=103&amp;hl=en&amp;start=7&amp;um=1&amp;tbnid=67rj-Ktz9NJW4M:&amp;tbnh=133&amp;tbnw=96&amp;prev=/images%3Fq%3Dbag%26um%3D1%26hl%3Den%26sa%3DN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/imgres?imgurl=http://www.geekalerts.com/u/small-boombox-bag.jpg&amp;imgrefurl=http://www.geekalerts.com/boombox-bags-for-retro-geeks/&amp;h=435&amp;w=350&amp;sz=30&amp;hl=en&amp;start=2&amp;um=1&amp;tbnid=Y8nqX9RmV4sLeM:&amp;tbnh=126&amp;tbnw=101&amp;prev=/images%3Fq%3Dbag%26um%3D1%26hl%3Den%26sa%3DN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/imgres?imgurl=http://www.marloscrochetcorner.com/images/10-4%2520cm%2520felt%2520bag.jpg&amp;imgrefurl=http://www.marloscrochetcorner.com/patterns%2520for%2520sale.html&amp;h=364&amp;w=400&amp;sz=37&amp;hl=en&amp;start=24&amp;um=1&amp;tbnid=2y1g1QiPy2l5HM:&amp;tbnh=113&amp;tbnw=124&amp;prev=/images%3Fq%3Dbag%26start%3D20%26ndsp%3D20%26um%3D1%26hl%3Den%26sa%3DN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com/imgres?imgurl=http://www.inprintmarden.co.uk/images/bag-manufacturer-uk.jpg&amp;imgrefurl=http://www.inprintmarden.co.uk/bag-manufacturer.html&amp;h=323&amp;w=354&amp;sz=21&amp;hl=en&amp;start=35&amp;um=1&amp;tbnid=NsR4GWh-j3uo2M:&amp;tbnh=110&amp;tbnw=121&amp;prev=/images%3Fq%3Dbag%26start%3D20%26ndsp%3D20%26um%3D1%26hl%3Den%26sa%3DN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s.google.com/imgres?imgurl=http://www.clowncostumes.com/images/Prop%2520Bag.jpg&amp;imgrefurl=http://www.clowncostumes.com/clown_bags_banners.htm&amp;h=951&amp;w=1200&amp;sz=131&amp;hl=en&amp;start=43&amp;um=1&amp;tbnid=2p87YQ2lt5ZazM:&amp;tbnh=119&amp;tbnw=150&amp;prev=/images%3Fq%3Dbag%26start%3D40%26ndsp%3D20%26um%3D1%26hl%3Den%26sa%3DN" TargetMode="External"/><Relationship Id="rId10" Type="http://schemas.openxmlformats.org/officeDocument/2006/relationships/image" Target="../media/image42.jpeg"/><Relationship Id="rId11" Type="http://schemas.openxmlformats.org/officeDocument/2006/relationships/hyperlink" Target="http://images.google.com/imgres?imgurl=http://www.polka-dot-market.com/polka-dot-diaper-bag.jpg&amp;imgrefurl=http://polkadotmarket.blogspot.com/2006_04_01_archive.html&amp;h=520&amp;w=440&amp;sz=28&amp;hl=en&amp;start=136&amp;um=1&amp;tbnid=3QIqL1ChdAXSiM:&amp;tbnh=131&amp;tbnw=111&amp;prev=/images%3Fq%3Dbag%26start%3D120%26ndsp%3D20%26um%3D1%26hl%3Den%26sa%3DN" TargetMode="External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ynchronize Your Gear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What gear are you in?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e Relationships of Career Clusters and Program of Study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Cluster – NATIONAL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www.careerclusters.org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 organizing tool that groups occupations and careers based on common knowledge and skill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 – STATE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issouri’s model for career development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wa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Early Childhood Development &amp;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istings of occupations that share advanced technical skills and/or common roles within a career clust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To be developed at the local level.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ystematic framework for a new way of doing business in our high schools, colleges, and universiti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rsonal Plan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To be developed at the local level for individual student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tudent’s scope and sequence of coursework and co-curricular experienc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this mean….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 student’s personal plan of study should reflect a program of study, but it should also be individualized for that student’s career interes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t’s more than a job, it’s a career choice for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s provides our students with opportunities to focus on a career path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stablishing career path relev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an help to justify your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19920" y="4003560"/>
            <a:ext cx="266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How Does FCCLA Fit In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 incorporated into a personal plan of study can develop personal qualities such as leadership and teamwork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dership skills that students learn in your classroom through FCCLA activities can be assessed and used to further justify your progra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657600" y="4876920"/>
            <a:ext cx="29718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-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arget date for the implementation of this process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ithin the next 3 yea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09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es this mean for you?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fresh, Energize, and Unite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don’t have to make these changes on your own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amily and Consumer Sciences teachers will have the opportunity to support and encourage each other in the design and implementation of curriculum and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124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ll Family and Consumer Sciences programs across the state will be united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IN THIS TOGETHER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mall and Large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ural, Urban, and Inner City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419720"/>
            <a:ext cx="120636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371600" y="44956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6705720" y="4495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inforcing What We’re Already Using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scoring guides to assess your lessons to increase depth of lear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REE Scoring guides are available at mcce.org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igor, Relevance, and Relationship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ritical Thinking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24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 Want To Challenge You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Get into gear…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 Narrow"/>
              </a:rPr>
              <a:t>As Missouri seamlessly adopts the National Standards, this means…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You will have fewer but broader standards to teach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More individuality in lesson                   plan design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 Narrow"/>
              </a:rPr>
              <a:t>It is imperative that what you teach builds a family foundation AND leads to a career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t it be known that what you are teaching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s to a care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s part of the solution to family life issues that are happening all over the natio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880" y="373392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nkrupc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33526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esit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19920" y="52578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im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nag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orc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95280" y="4724280"/>
            <a:ext cx="2438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ild Abu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62520" y="49528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bstanc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us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72200" y="3733920"/>
            <a:ext cx="234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arceration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at does YOUR community need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d out…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dvisory committe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areer data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ployability skill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gh Skill, High Wage, or High Demand occupations is our targe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need to teach what data indicates is needed, not what we traditionally like or are comfortable teach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Data Drives What is Taugh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he Big Pictur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’ve been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 going. 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ork of the Family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ultimate human servic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100% demand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86200" y="2590920"/>
            <a:ext cx="46483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Know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30 Second Elevator Speech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counselo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administrato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par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…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876920" y="4419720"/>
            <a:ext cx="2819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Elevator Speech / 30 Second Speech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mponents of Work &amp; Family Life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Relationship Skill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uman Develop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ealth &amp; Wellnes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inancial Competenc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ership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ritical Think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roblem Solv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1868760" cy="1952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274320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tudents can explore several career clusters and are employed in a variety of job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uman Servic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ducation &amp; Train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ospitality &amp; Tourism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rt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anufactur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al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4792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1038240" cy="1123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429000" y="4038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6629400" y="4724280"/>
            <a:ext cx="1828800" cy="1292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6705720" y="1066680"/>
            <a:ext cx="18684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addition, an integral part of the Family and Consumer Sciences curriculum is the student organization Family, Career &amp; Community Leaders of America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rning leadership skills through FCCL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1868400" cy="1952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95680" y="4038480"/>
            <a:ext cx="2971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 Up For Regional Training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rograms of Study Module Training Seminars will be offered throughout the region. Be watching for upcoming trai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&amp; Courses – A New Look &amp; Curriculum Writ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 Mode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story &amp; Rationale for Chang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dership Skill Develop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Develop a Program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eating Articulation Agreemen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8958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&amp; Courses – A New Look &amp; Curriculum Writing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ere to find market data (used to drive your program)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contact your technical prep person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vailability of developed Programs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haring programs of study district to district, school to scho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You don’t have to re-invent the whe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ligning curriculum to Missouri Competencies and National Standard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king sure that you include rigor,                                     relevance, and relationships in your                              curriculum offering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64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Leadership Skill Development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ore Leadership Skills Components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student benefits of leadership skill developmen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community/school benefits of leadership skills development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sure to attend the leadership skill module as we have new specific leadership skills that need to be taught and assessed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76720" y="4691160"/>
            <a:ext cx="428616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adership Skill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3716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How to Develop a Program of Study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10 step process to implementing the program of stud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art to finish, how to put a program of study in place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ow to recognize gaps and                                          overlaps in your current curriculum                             offering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43480" y="1676520"/>
          <a:ext cx="317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676520"/>
                    <a:ext cx="317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History &amp; Rationale for Change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reasons for the chang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ederal, State, and Perkins legislation is driving these change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ocietal changes drives curriculum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abor market data drives what is being taught and offered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uture will be family focused, career focused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ncrease rigor, relevance, and relationship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mproves Family and Consumer Sciences programs to prepare students for a viable care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952880" y="4648320"/>
            <a:ext cx="32004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Family &amp; Consumer Sciences –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Impact"/>
              </a:rPr>
              <a:t>Be proud of what’s been accomplished!</a:t>
            </a:r>
            <a:endParaRPr b="0" lang="en-US" sz="36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Then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No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Life Expectanc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47.3 yea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7.8 yea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Education Beyond High Schoo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.9%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26.6%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Goa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mprove Quality of Lif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Prepare students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for the work of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the family and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caree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2895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4038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54864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Creating Articulation Agreements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get information regarding the benefits and process of articulation: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ooking at how articulation will help you to develop your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Recognize that this is a good thing for our students and our state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is will help you to get administrative suppor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is will enable you to formulate collaborative groups to approach universities and junior/community colleges together to match up credi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424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s of Study Models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- THE FINAL LINK -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ow to put together all of the training pieces you’ve learned at the different training module workshop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he components of the program of study will work for students in the community where you teach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king a seamless educational program offering your students more opportunities.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elping students link current coursework with possible career pathway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724280" y="5257800"/>
            <a:ext cx="1600200" cy="1270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16002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So….now what?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 we do with all of 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is information?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, problem solving, and the process skills are still just as important as ever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 the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foundation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f our curriculum.  It’s easy to say we are using these skills every day in our classrooms but are we REALLY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we challenging our students each and every day to be an innovative and authentic learner?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t’s important that as leaders in the model for what education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be that each and every one of us remains constant in our teaching of these skills – remember we are models to other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want to maintain our status as leaders of innovative think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ach person needs to stay dilig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Be a Gear Head – Bag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 sure to keep all of the hand outs and information you get regarding these topics in the same location for easy acc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812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276720"/>
            <a:ext cx="1342800" cy="1676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05320"/>
            <a:ext cx="1152720" cy="1047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80060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391520" y="4572000"/>
            <a:ext cx="1315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member…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on the same path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are not alon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in this together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3352680" cy="2900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3124440" cy="2455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324480" y="533520"/>
            <a:ext cx="1863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177840"/>
          <a:ext cx="9144000" cy="65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840"/>
                    <a:ext cx="9144000" cy="65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of Study (POS)  -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                                     NOT a Dirty Word!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head of other curriculum area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LEADERS and we want to stay that wa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gram credibili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issouri is the process of seamlessly adopting National Family and Consumer Sciences Standar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ational end of year assessments will be put in place at the local level by 2011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ocusing on a career path will provide more opportunities for your students AND your Family and Consumer Sciences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e need to have this in place, ready to go, because as you well know, Family and Consumer Sciences programs are constantly under scrutiny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8954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POS Mean to You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issouri has chosen the Career Clusters Framework to organize and implement its programs of stud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3657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922400" y="0"/>
          <a:ext cx="51246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0"/>
                    <a:ext cx="512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 flipV="1">
            <a:off x="5410080" y="2209680"/>
            <a:ext cx="228600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1828800"/>
            <a:ext cx="10666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248520" y="761760"/>
            <a:ext cx="160020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7924680" y="457200"/>
            <a:ext cx="914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352680"/>
            <a:ext cx="9144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3200400"/>
            <a:ext cx="1067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wa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Carthage R9</cp:lastModifiedBy>
  <dcterms:modified xsi:type="dcterms:W3CDTF">2008-04-15T18:35:23Z</dcterms:modified>
  <cp:revision>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